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7441-05BA-49ED-9F46-63E2B99F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8673-3657-4FDA-97FB-48D2A519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BFB0-DE4E-4F1C-8B3D-0EA780FB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1D95-3E9B-4D0C-B03F-81351067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92AF-B694-4D11-B6FE-298D55BC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132C-2B24-4248-A237-A5C0B629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6B9D-656F-419A-8F95-78B50D0E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9F34-5119-47E5-A8A3-862E1BBB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2F90-0842-449E-B853-CE81C71F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4229-95BA-4E12-94CF-08A16723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5E0D-BED6-476E-B6D2-25D112E3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13A5-224E-4936-A420-E28A3FD4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12E5-0771-4B06-8F4A-958ABD8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9387-1B59-42CB-9466-94F4CB9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0A0E-F95B-4DCC-A43E-3C931A86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EADC-AE31-4E24-8673-FA6D62FD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E8AC-1A68-4A15-A21C-846B616F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4B3F-C0CC-4C67-ABDE-3443F282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1BCB-763F-4072-A3C9-7050A688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F71F-907A-413E-AE42-216BD90B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E2EE-0F0E-49F9-AF94-7CDED00A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F85F-F150-448B-AEB9-C5FB19ED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3299-982C-4B74-8400-A754C468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90B0-C0BF-4B1A-B06E-A6A1B5C4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5E1B-07AE-4CED-A1A6-3E27631F2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9E8-D0DD-4EFE-9136-FB7F8BD85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presentatio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6 Med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664080" cy="5648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80000" y="256536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85264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lm can be seen as a reflection of the growing public opposition to American foreign policy in the Middle East and American involvement in Iraq/Afghanis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83664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a Texan senator who gave American money and weapons to Afghanistan after they were invaded by the Soviet U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544500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, the film constructs audience knowledge and understanding of the history and therefore contributes to the development of anti-war sent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ist approach in ac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0720"/>
            <a:ext cx="7283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people in film represented as upper-class idi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must be some British people who the producers either encountered in reality or in another media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formed an opinion of them that they were stuck up idiots which they used as the basis of their re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n individual watching the film, you chose whether to believe the representation was valid or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oing this, you were influenced by the fact that you yourself are British – an American watching the film would have probably come to a different conclu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236000" y="1125360"/>
            <a:ext cx="17809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ty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make notes on pages 4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1957320" cy="1566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1746360" cy="1307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1897200" cy="150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588000" y="3284640"/>
            <a:ext cx="1665360" cy="177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5445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*Homework**  Choose a reality TV programme you have seen recently. Note examples of voyeurism, symbolic violence, transformation, realism, entertainment values and emotional realism.  Does the programme have inter-media li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42448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groups, events, places and experiences are represented in media tex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piction or description of something, someone or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nvolve symbolising or standing in for what is being repres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68360" y="5805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ot possible for the media to present the world as it really is... The media CONSTRUCTS meanings about the world.  They change or MEDIATE what is really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920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time we encounter a media text, we are not seeing reality, but someone’s version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remember that a text will have been highly mediated before it reach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Comedy panel show such as ‘Mock the Week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75680" y="0"/>
            <a:ext cx="1768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on – 3 things to look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ever ends up on the screen/in the paper, much more will have been lef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-en-scene and narrative will have been arranged in a particular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dience will be encouraged towards concentrating on one aspect of the text – tabloid headline, camera close up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, if anything, are the following symbols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son Mand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ney S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o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Beck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1857240" cy="2304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00720" y="1773360"/>
            <a:ext cx="2427480" cy="1820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27640" y="4221000"/>
            <a:ext cx="1876320" cy="2438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300720" y="3573360"/>
            <a:ext cx="2024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your opinion of the following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 Hi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ifer Lo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illa Parker-Bow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Trek f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1503360" cy="2282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948360" y="2133720"/>
            <a:ext cx="1249560" cy="172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3789360"/>
            <a:ext cx="2408040" cy="172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286680" y="378936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156360" y="5381640"/>
            <a:ext cx="2482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42920" y="155736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ilitants unleash wave of attacks across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781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eedom fighters bravely defend thei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6200" y="4292640"/>
            <a:ext cx="145584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450864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ve v Constructio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84464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representations reflect values, ideologies and political/cultural concerns of the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RESPONDS to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s on relationship between texts and reality and way in which reality may be distorted in the interests of powerfu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RUCTI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ence knowledge and understanding is constr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INFLUENCES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ed with who has the power to ensure their version of reality is the accepted and dominant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826920" y="58053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Add further notes to your worksheet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13:11:06Z</dcterms:created>
  <dc:creator>niall</dc:creator>
  <dc:description/>
  <dc:language>en-US</dc:language>
  <cp:lastModifiedBy>declan</cp:lastModifiedBy>
  <dcterms:modified xsi:type="dcterms:W3CDTF">2010-09-01T18:53:11Z</dcterms:modified>
  <cp:revision>21</cp:revision>
  <dc:subject/>
  <dc:title>Representation </dc:title>
</cp:coreProperties>
</file>